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808-8801-4E04-9E42-DDC975BF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B70-1197-419E-91E8-FD7CC8DB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EAD-372A-4EA7-9595-3B248D97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FAF-BB1B-40FA-814D-3D810949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DFD54-3D0D-4AF7-8592-84F17192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FE5ED-8FAD-40E4-937A-94C3622E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2BC0C-882F-4F9A-AD4D-9D8785B6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72565-B2B1-454A-84D7-931D1C9A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12872-8907-4F81-AEBD-324E63E1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87CE9-EED3-46B1-973A-1F78EC55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D37AF-60CA-4775-8F9C-48CDA7A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F1F-9B55-40FC-B5DD-641E8C97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E1E62-E93A-47DB-9B67-4864F4AC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AF6E8-4F79-4A30-BC30-2234FDB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FF863-D9CB-4629-8541-2E3279A7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BE396-234D-4608-A050-451637A7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000BF-6C44-4061-A39D-1B05A092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499-9BFA-4487-8E8F-529370BE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6BD-3F7A-4AC7-A406-FD379CF9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A74-A1AF-4679-8DF5-320B2FD2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E3B-38C6-4C13-9395-DF8DB5B2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924-0EA1-4ABB-966E-CEAF816A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33F-A91F-4920-887B-6663C31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469-55A9-4372-B84F-E031A359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9E44-A0D2-4DA5-9418-DBDCD3B5010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5122-3215-4853-9F46-36586052F01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8584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n Jan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a-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s sind Indikatore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kator leitet sich von indicare (=anzeigen) 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der Chemie: = Stoff oder Gerät zur Überwachung von chemischer Reaktion oder Zust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äure/Base 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m allg. organische Säuren mit verschiedener Farbe zur korrespondierenden 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Bsp: Bei Methylorange Säure rot &amp; korr. Base ge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mschlagsbereiche von Säure/Ba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Indikator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e Farbe eines Indikators ergibt sich aus dem Gleichgewicht von Säure &amp; kor. Bas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rbwechsel ist erst bei zehnfachem Überschuss der Säure bzw. der Kor. Base vollständig sichtba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dikatoren können einen oder zwei Umschlagsbereiche besitz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71560" y="4716360"/>
            <a:ext cx="73724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00720" y="3500280"/>
            <a:ext cx="2843280" cy="3357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as ph-Me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nelle und genaue Bestimmung von pH-Wer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zeugt durch Elektrode eine Spannung, welche vom pH-Wert abhäng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versal- &amp; Spezial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Universalindikator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Gemisch von Indikatoren mit versch. Umschlagsbereichen (Bsp.Indikatorpap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pH - Bereich 1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Spezialindikator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Kleinere pH-Bereiche bis zu 0,2 pH-Einhe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rsu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Materialien: 2 Bechergläser; Schwarzer Tee; Rotkohlsaft; Zitronensaft; Spülmitt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Versuchaufbau: Je ein Becherglas mit Tee und Rotkohlsaft fül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Versuch:1 Spritzer Zitronensaft in den Tee geb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Spritzer Spülmittel in den Rotkohlsaft geb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Ergebnis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6:25:10Z</dcterms:created>
  <dc:creator>Lena</dc:creator>
  <dc:description/>
  <dc:language>en-US</dc:language>
  <cp:lastModifiedBy>Lena</cp:lastModifiedBy>
  <dcterms:modified xsi:type="dcterms:W3CDTF">2005-12-13T18:17:14Z</dcterms:modified>
  <cp:revision>5</cp:revision>
  <dc:subject/>
  <dc:title>Indikatoren</dc:title>
</cp:coreProperties>
</file>